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F85C-BF3A-498F-A148-07D08145A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F15-00C7-4877-801F-941192F4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BD6-8E03-422B-9A4D-11906BB3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146-3668-4151-B944-81A8FB01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175-E5C3-463D-B7A4-B1406809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8FE-BCF6-4CAA-86B7-B043657B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F23-8793-4207-A0E4-29A0F721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DF3-74C2-4E67-90F6-3C8BEED9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920-77D1-4C12-853D-5488C60B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580-DE30-4696-BBBB-3DCCACFD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499-872C-49FA-B8E5-02C1DF82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B24-D5D6-4769-AFCE-52090E46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479-5544-4304-B698-B0ED9AAA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7322-6790-49FD-8B42-3D8A35022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22:12Z</dcterms:modified>
  <cp:revision>59</cp:revision>
  <dc:subject/>
  <dc:title>PowerPoint Presentation</dc:title>
</cp:coreProperties>
</file>